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3B0-FAC5-4E2A-9886-A0F806DC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245-2FBA-4D50-807E-ED8001A2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178-C00B-4B79-BF74-54D7EBD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F64-F2B9-469F-BCEB-2B05C81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4B8-36B2-4515-AA40-CDCAFD9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69C-864D-4D21-802E-82C4B1B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844-11FA-41D2-95C9-854A12C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A71-3312-4013-932E-0211C45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4A2-A180-401F-88AE-DDE018A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FE0-0047-4803-9524-8968162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648-D410-4824-9490-BE577CD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E9E-46AA-4436-B9FC-AAA8D3D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E04-E387-4653-A953-D8B01512B8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ggling school work, athletics, a part-time job, and social life with friends, it’s no wonder teenagers today struggle to live a healthy lifestyle. This presentation give teens some tips on how to eat healthy and live a balanced, stress-free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 a Lunch with a P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ch time in the school cafeteria is most likely a time where eating lunch is not a priority and socializing with your friends is. Here are some easy to eat, healthy lunch ideas to help you finish your school day strong and energ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g or tuna salad sandwich on whole wheat b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ey wrap with lettuce, tomato, and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d with lots of colorful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urt with fru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tisfying Su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small salad to each of the delicious ideas below and you will be able to finish your night strong and energ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r fry vegetables with shrimp or chic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cken fajitas with guacamole and sa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iled salmon or chicken with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d potato with vegetable chili topp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rt Snack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ealthy snacking a part of your everyday routine with the following healthy snack id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wheat pretz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e cakes with peanut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fat yogurt with fresh fr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 cut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4:38:38Z</dcterms:created>
  <dc:creator>Phil Schneider</dc:creator>
  <dc:description/>
  <dc:language>en-US</dc:language>
  <cp:lastModifiedBy>NHBOE</cp:lastModifiedBy>
  <dcterms:modified xsi:type="dcterms:W3CDTF">2015-05-04T13:02:19Z</dcterms:modified>
  <cp:revision>6</cp:revision>
  <dc:subject/>
  <dc:title>Slide 1</dc:title>
</cp:coreProperties>
</file>